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8.png" ContentType="image/png"/>
  <Override PartName="/ppt/media/image1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5CC1-1F49-4CE7-81CE-6F910614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71A-3909-4D81-AEA8-0DCC8937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C63-1B83-4756-A8EE-7438A4CF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B51-D615-4F98-9C44-7C6ABA68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C20-BDC5-49C6-BA1F-F3B2DAD1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C84-8375-44E7-A5A8-97A29CA2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DFD-5C2B-4C43-B744-F0FB7B8A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D8C-41F6-423F-9DEC-1D8962F8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3BE-68DD-4041-8FBE-7328D45F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48E-99D4-4AD3-8C8B-0967F40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DF6-398E-47E4-A264-867D5D7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EA4-3AC6-48E4-BBD6-186CED3E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C900E-72F2-4739-AB71-3C15955AE3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3176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1 Li Ming Goes to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55500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800440" y="4502160"/>
            <a:ext cx="6343560" cy="7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文本框 8" descr=""/>
          <p:cNvPicPr/>
          <p:nvPr/>
        </p:nvPicPr>
        <p:blipFill>
          <a:blip r:embed="rId1"/>
          <a:stretch/>
        </p:blipFill>
        <p:spPr>
          <a:xfrm>
            <a:off x="1812960" y="193680"/>
            <a:ext cx="6048360" cy="71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Administrator\Desktop\QQ截图20170516174118.jpg"/>
          <p:cNvPicPr/>
          <p:nvPr/>
        </p:nvPicPr>
        <p:blipFill>
          <a:blip r:embed="rId2"/>
          <a:stretch/>
        </p:blipFill>
        <p:spPr>
          <a:xfrm>
            <a:off x="1203480" y="1189080"/>
            <a:ext cx="6700680" cy="44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17"/>
          <p:cNvSpPr/>
          <p:nvPr/>
        </p:nvSpPr>
        <p:spPr>
          <a:xfrm>
            <a:off x="3211560" y="1692360"/>
            <a:ext cx="3660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y I help you?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我可以帮你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8"/>
          <p:cNvSpPr/>
          <p:nvPr/>
        </p:nvSpPr>
        <p:spPr>
          <a:xfrm>
            <a:off x="987480" y="17445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9"/>
          <p:cNvSpPr/>
          <p:nvPr/>
        </p:nvSpPr>
        <p:spPr>
          <a:xfrm>
            <a:off x="1246320" y="172548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9" descr="book.gif"/>
          <p:cNvPicPr/>
          <p:nvPr/>
        </p:nvPicPr>
        <p:blipFill>
          <a:blip r:embed="rId2"/>
          <a:stretch/>
        </p:blipFill>
        <p:spPr>
          <a:xfrm>
            <a:off x="185760" y="16304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37" name="矩形 1"/>
          <p:cNvSpPr/>
          <p:nvPr/>
        </p:nvSpPr>
        <p:spPr>
          <a:xfrm>
            <a:off x="1017720" y="2370240"/>
            <a:ext cx="7662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句型主要用于询问对方是否需要帮助，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情态动词，意为“可以”，后面接动词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方的肯定回答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可以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/Sure. 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然可以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回答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k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不用了， 谢谢。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8" descr=""/>
          <p:cNvPicPr/>
          <p:nvPr/>
        </p:nvPicPr>
        <p:blipFill>
          <a:blip r:embed="rId2"/>
          <a:stretch/>
        </p:blipFill>
        <p:spPr>
          <a:xfrm>
            <a:off x="452520" y="185904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142" name="矩形 16"/>
          <p:cNvSpPr/>
          <p:nvPr/>
        </p:nvSpPr>
        <p:spPr>
          <a:xfrm>
            <a:off x="874440" y="1708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1638360" y="1625760"/>
            <a:ext cx="6985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车站、书店、商场、餐馆里的服务员常用这句话招呼顾客。但是它在不同的场合有不同的含义，快来看看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885960" y="387684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想要去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6"/>
          <p:cNvSpPr/>
          <p:nvPr/>
        </p:nvSpPr>
        <p:spPr>
          <a:xfrm>
            <a:off x="901800" y="5051520"/>
            <a:ext cx="2251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想要什么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6316560" y="3876840"/>
            <a:ext cx="226872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想买点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8"/>
          <p:cNvSpPr/>
          <p:nvPr/>
        </p:nvSpPr>
        <p:spPr>
          <a:xfrm>
            <a:off x="6332400" y="5119560"/>
            <a:ext cx="22528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想吃点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3998880" y="4336920"/>
            <a:ext cx="1515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4"/>
          <p:cNvSpPr/>
          <p:nvPr/>
        </p:nvSpPr>
        <p:spPr>
          <a:xfrm>
            <a:off x="3152880" y="4106880"/>
            <a:ext cx="846000" cy="68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32"/>
          <p:cNvSpPr/>
          <p:nvPr/>
        </p:nvSpPr>
        <p:spPr>
          <a:xfrm flipV="1">
            <a:off x="3152880" y="4801680"/>
            <a:ext cx="846000" cy="481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35"/>
          <p:cNvSpPr/>
          <p:nvPr/>
        </p:nvSpPr>
        <p:spPr>
          <a:xfrm flipV="1">
            <a:off x="5514840" y="4106880"/>
            <a:ext cx="801720" cy="681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37"/>
          <p:cNvSpPr/>
          <p:nvPr/>
        </p:nvSpPr>
        <p:spPr>
          <a:xfrm>
            <a:off x="5514840" y="4788000"/>
            <a:ext cx="817560" cy="56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9"/>
          <p:cNvSpPr/>
          <p:nvPr/>
        </p:nvSpPr>
        <p:spPr>
          <a:xfrm>
            <a:off x="3139920" y="380520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车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0"/>
          <p:cNvSpPr/>
          <p:nvPr/>
        </p:nvSpPr>
        <p:spPr>
          <a:xfrm>
            <a:off x="3125880" y="517212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书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1"/>
          <p:cNvSpPr/>
          <p:nvPr/>
        </p:nvSpPr>
        <p:spPr>
          <a:xfrm>
            <a:off x="5253120" y="379404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商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2"/>
          <p:cNvSpPr/>
          <p:nvPr/>
        </p:nvSpPr>
        <p:spPr>
          <a:xfrm>
            <a:off x="5302080" y="532116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餐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26"/>
          <p:cNvGrpSpPr/>
          <p:nvPr/>
        </p:nvGrpSpPr>
        <p:grpSpPr>
          <a:xfrm>
            <a:off x="628560" y="2217600"/>
            <a:ext cx="1260720" cy="459720"/>
            <a:chOff x="628560" y="2217600"/>
            <a:chExt cx="1260720" cy="459720"/>
          </a:xfrm>
        </p:grpSpPr>
        <p:sp>
          <p:nvSpPr>
            <p:cNvPr id="161" name="TextBox 3"/>
            <p:cNvSpPr/>
            <p:nvPr/>
          </p:nvSpPr>
          <p:spPr>
            <a:xfrm>
              <a:off x="896760" y="2217600"/>
              <a:ext cx="99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28560" y="2271600"/>
              <a:ext cx="32436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矩形 28"/>
          <p:cNvSpPr/>
          <p:nvPr/>
        </p:nvSpPr>
        <p:spPr>
          <a:xfrm>
            <a:off x="1793880" y="1973160"/>
            <a:ext cx="691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 I’m lost. Where is the libr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Let me help you.               B. Can you help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May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2851200" y="22240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17"/>
          <p:cNvSpPr/>
          <p:nvPr/>
        </p:nvSpPr>
        <p:spPr>
          <a:xfrm>
            <a:off x="3422160" y="1623960"/>
            <a:ext cx="33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unch /lʌntʃ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午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18"/>
          <p:cNvSpPr/>
          <p:nvPr/>
        </p:nvSpPr>
        <p:spPr>
          <a:xfrm>
            <a:off x="1131840" y="17413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9"/>
          <p:cNvSpPr/>
          <p:nvPr/>
        </p:nvSpPr>
        <p:spPr>
          <a:xfrm>
            <a:off x="1413000" y="17226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2436840" y="2355840"/>
            <a:ext cx="61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r clothes are very dirty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衣服很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9" descr="book.gif"/>
          <p:cNvPicPr/>
          <p:nvPr/>
        </p:nvPicPr>
        <p:blipFill>
          <a:blip r:embed="rId2"/>
          <a:stretch/>
        </p:blipFill>
        <p:spPr>
          <a:xfrm>
            <a:off x="360360" y="166356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73" name="矩形 1"/>
          <p:cNvSpPr/>
          <p:nvPr/>
        </p:nvSpPr>
        <p:spPr>
          <a:xfrm>
            <a:off x="1629720" y="258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"/>
          <p:cNvSpPr/>
          <p:nvPr/>
        </p:nvSpPr>
        <p:spPr>
          <a:xfrm>
            <a:off x="1639440" y="3389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2482920" y="3143160"/>
            <a:ext cx="290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rty wat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脏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"/>
          <p:cNvSpPr/>
          <p:nvPr/>
        </p:nvSpPr>
        <p:spPr>
          <a:xfrm>
            <a:off x="2525760" y="4805280"/>
            <a:ext cx="2031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rt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1626840" y="418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2486160" y="393696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ea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干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1405800" y="4989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文本框 8" descr=""/>
          <p:cNvPicPr/>
          <p:nvPr/>
        </p:nvPicPr>
        <p:blipFill>
          <a:blip r:embed="rId1"/>
          <a:stretch/>
        </p:blipFill>
        <p:spPr>
          <a:xfrm>
            <a:off x="2836800" y="101520"/>
            <a:ext cx="4041720" cy="849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609560" y="1446120"/>
            <a:ext cx="59626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文本框 8" descr=""/>
          <p:cNvPicPr/>
          <p:nvPr/>
        </p:nvPicPr>
        <p:blipFill>
          <a:blip r:embed="rId1"/>
          <a:stretch/>
        </p:blipFill>
        <p:spPr>
          <a:xfrm>
            <a:off x="2836800" y="101520"/>
            <a:ext cx="404172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Administrator\Desktop\QQ截图20170516175205.jpg"/>
          <p:cNvPicPr/>
          <p:nvPr/>
        </p:nvPicPr>
        <p:blipFill>
          <a:blip r:embed="rId2"/>
          <a:stretch/>
        </p:blipFill>
        <p:spPr>
          <a:xfrm>
            <a:off x="923760" y="1255680"/>
            <a:ext cx="7543800" cy="46483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1"/>
          <p:cNvSpPr/>
          <p:nvPr/>
        </p:nvSpPr>
        <p:spPr>
          <a:xfrm>
            <a:off x="1681200" y="24271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2"/>
          <p:cNvSpPr/>
          <p:nvPr/>
        </p:nvSpPr>
        <p:spPr>
          <a:xfrm>
            <a:off x="6377040" y="199224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3"/>
          <p:cNvSpPr/>
          <p:nvPr/>
        </p:nvSpPr>
        <p:spPr>
          <a:xfrm>
            <a:off x="3757680" y="236376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1679400" y="283860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2898720" y="2824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1681200" y="32608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2940120" y="3232080"/>
            <a:ext cx="8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1708200" y="36799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1693800" y="409104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1"/>
          <p:cNvSpPr/>
          <p:nvPr/>
        </p:nvSpPr>
        <p:spPr>
          <a:xfrm>
            <a:off x="3825720" y="402264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1679400" y="448308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3"/>
          <p:cNvSpPr/>
          <p:nvPr/>
        </p:nvSpPr>
        <p:spPr>
          <a:xfrm>
            <a:off x="3452760" y="4484520"/>
            <a:ext cx="9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4"/>
          <p:cNvSpPr/>
          <p:nvPr/>
        </p:nvSpPr>
        <p:spPr>
          <a:xfrm>
            <a:off x="1681200" y="49258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5"/>
          <p:cNvSpPr/>
          <p:nvPr/>
        </p:nvSpPr>
        <p:spPr>
          <a:xfrm>
            <a:off x="1665360" y="53197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6"/>
          <p:cNvSpPr/>
          <p:nvPr/>
        </p:nvSpPr>
        <p:spPr>
          <a:xfrm>
            <a:off x="3772080" y="528804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961920" y="1357200"/>
            <a:ext cx="7534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It’s five o’ clock in the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time to make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reakf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lunch            C. d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You can help me ________a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makes          B. make              C.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"/>
          <p:cNvSpPr/>
          <p:nvPr/>
        </p:nvSpPr>
        <p:spPr>
          <a:xfrm>
            <a:off x="3944880" y="249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22"/>
          <p:cNvGrpSpPr/>
          <p:nvPr/>
        </p:nvGrpSpPr>
        <p:grpSpPr>
          <a:xfrm>
            <a:off x="7167600" y="1125360"/>
            <a:ext cx="1812960" cy="368640"/>
            <a:chOff x="7167600" y="1125360"/>
            <a:chExt cx="1812960" cy="368640"/>
          </a:xfrm>
        </p:grpSpPr>
        <p:sp>
          <p:nvSpPr>
            <p:cNvPr id="203" name="矩形 21"/>
            <p:cNvSpPr/>
            <p:nvPr/>
          </p:nvSpPr>
          <p:spPr>
            <a:xfrm>
              <a:off x="7167600" y="1142640"/>
              <a:ext cx="181296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17"/>
            <p:cNvSpPr/>
            <p:nvPr/>
          </p:nvSpPr>
          <p:spPr>
            <a:xfrm>
              <a:off x="722412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4"/>
          <p:cNvSpPr/>
          <p:nvPr/>
        </p:nvSpPr>
        <p:spPr>
          <a:xfrm>
            <a:off x="1353960" y="4830840"/>
            <a:ext cx="715356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7"/>
          <p:cNvSpPr/>
          <p:nvPr/>
        </p:nvSpPr>
        <p:spPr>
          <a:xfrm>
            <a:off x="2228760" y="4815000"/>
            <a:ext cx="63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lp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b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o sth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帮助某人做某事”。所以用动词原形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ak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"/>
          <p:cNvSpPr/>
          <p:nvPr/>
        </p:nvSpPr>
        <p:spPr>
          <a:xfrm>
            <a:off x="3944880" y="3629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961920" y="1535040"/>
            <a:ext cx="753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 Who is helping her _________Chine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or            B. of            C.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Let’s _________his brother move the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elp          B. helps        C. hel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4402080" y="16905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22"/>
          <p:cNvGrpSpPr/>
          <p:nvPr/>
        </p:nvGrpSpPr>
        <p:grpSpPr>
          <a:xfrm>
            <a:off x="7099200" y="1125360"/>
            <a:ext cx="1812960" cy="368640"/>
            <a:chOff x="7099200" y="1125360"/>
            <a:chExt cx="1812960" cy="368640"/>
          </a:xfrm>
        </p:grpSpPr>
        <p:sp>
          <p:nvSpPr>
            <p:cNvPr id="212" name="矩形 21"/>
            <p:cNvSpPr/>
            <p:nvPr/>
          </p:nvSpPr>
          <p:spPr>
            <a:xfrm>
              <a:off x="7099200" y="1142640"/>
              <a:ext cx="181296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17"/>
            <p:cNvSpPr/>
            <p:nvPr/>
          </p:nvSpPr>
          <p:spPr>
            <a:xfrm>
              <a:off x="71964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1343160" y="2849400"/>
            <a:ext cx="71532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"/>
          <p:cNvSpPr/>
          <p:nvPr/>
        </p:nvSpPr>
        <p:spPr>
          <a:xfrm>
            <a:off x="2217600" y="2833560"/>
            <a:ext cx="63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help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b.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＋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ith sth.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帮助某人做某事”，这是固定搭配，介词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ith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"/>
          <p:cNvSpPr/>
          <p:nvPr/>
        </p:nvSpPr>
        <p:spPr>
          <a:xfrm>
            <a:off x="2538360" y="4235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1305000" y="5283360"/>
            <a:ext cx="7153200" cy="64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0"/>
          <p:cNvSpPr/>
          <p:nvPr/>
        </p:nvSpPr>
        <p:spPr>
          <a:xfrm>
            <a:off x="2179800" y="5267160"/>
            <a:ext cx="53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et’s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后面接动词原形，故选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"/>
          <p:cNvSpPr/>
          <p:nvPr/>
        </p:nvSpPr>
        <p:spPr>
          <a:xfrm>
            <a:off x="900000" y="1646280"/>
            <a:ext cx="8113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连词成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, I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y, hel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根据句意和图片提示，用正确的单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3520" indent="-1163520">
              <a:lnSpc>
                <a:spcPct val="1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boy’s hands are 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738680" y="44546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525680" y="3160800"/>
            <a:ext cx="30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y I help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22"/>
          <p:cNvGrpSpPr/>
          <p:nvPr/>
        </p:nvGrpSpPr>
        <p:grpSpPr>
          <a:xfrm>
            <a:off x="7236000" y="1125360"/>
            <a:ext cx="1812600" cy="368640"/>
            <a:chOff x="7236000" y="1125360"/>
            <a:chExt cx="1812600" cy="368640"/>
          </a:xfrm>
        </p:grpSpPr>
        <p:sp>
          <p:nvSpPr>
            <p:cNvPr id="224" name="矩形 23"/>
            <p:cNvSpPr/>
            <p:nvPr/>
          </p:nvSpPr>
          <p:spPr>
            <a:xfrm>
              <a:off x="7236000" y="1142640"/>
              <a:ext cx="181260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7"/>
            <p:cNvSpPr/>
            <p:nvPr/>
          </p:nvSpPr>
          <p:spPr>
            <a:xfrm>
              <a:off x="729252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20" descr=""/>
          <p:cNvPicPr/>
          <p:nvPr/>
        </p:nvPicPr>
        <p:blipFill>
          <a:blip r:embed="rId2"/>
          <a:stretch/>
        </p:blipFill>
        <p:spPr>
          <a:xfrm>
            <a:off x="6173640" y="4376880"/>
            <a:ext cx="1067040" cy="96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2048040" y="4575240"/>
            <a:ext cx="56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you eat for dinn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"/>
          <p:cNvPicPr/>
          <p:nvPr/>
        </p:nvPicPr>
        <p:blipFill>
          <a:blip r:embed="rId1"/>
          <a:stretch/>
        </p:blipFill>
        <p:spPr>
          <a:xfrm>
            <a:off x="1096920" y="1793880"/>
            <a:ext cx="3325680" cy="251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2"/>
          <a:stretch/>
        </p:blipFill>
        <p:spPr>
          <a:xfrm>
            <a:off x="4756320" y="1793880"/>
            <a:ext cx="3360600" cy="2519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E:\QQ文件\小学点拨课件副本.gif"/>
          <p:cNvPicPr/>
          <p:nvPr/>
        </p:nvPicPr>
        <p:blipFill>
          <a:blip r:embed="rId3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633240" y="1486080"/>
            <a:ext cx="801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633240" y="3112920"/>
            <a:ext cx="79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nch, dinner,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for dinn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help my mother make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3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3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2451240" y="198360"/>
            <a:ext cx="4608360" cy="71604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677880" y="1193760"/>
            <a:ext cx="7234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ime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half past six. Time for dinner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m hungry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m! I only ate an apple for lunch. What’s for dinn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’ m cooking meat 3 and vege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’s help my mother make dinner. She needs some vege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omatoes are in the frid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otatoes and carrots are on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nner’s read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ner looks so good, Mrs. Sm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7"/>
          <p:cNvSpPr/>
          <p:nvPr/>
        </p:nvSpPr>
        <p:spPr>
          <a:xfrm>
            <a:off x="3176280" y="1582560"/>
            <a:ext cx="33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unch /lʌntʃ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午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8"/>
          <p:cNvSpPr/>
          <p:nvPr/>
        </p:nvSpPr>
        <p:spPr>
          <a:xfrm>
            <a:off x="885960" y="17002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9"/>
          <p:cNvSpPr/>
          <p:nvPr/>
        </p:nvSpPr>
        <p:spPr>
          <a:xfrm>
            <a:off x="1166760" y="16812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192400" y="2314440"/>
            <a:ext cx="488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girl has some meat for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女孩午餐吃了一些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book.gif"/>
          <p:cNvPicPr/>
          <p:nvPr/>
        </p:nvPicPr>
        <p:blipFill>
          <a:blip r:embed="rId2"/>
          <a:stretch/>
        </p:blipFill>
        <p:spPr>
          <a:xfrm>
            <a:off x="114480" y="16225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1383840" y="2543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1298160" y="4111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209680" y="3867120"/>
            <a:ext cx="27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lunc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吃午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8" descr=""/>
          <p:cNvPicPr/>
          <p:nvPr/>
        </p:nvPicPr>
        <p:blipFill>
          <a:blip r:embed="rId3"/>
          <a:stretch/>
        </p:blipFill>
        <p:spPr>
          <a:xfrm>
            <a:off x="861840" y="499752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79" name="矩形 16"/>
          <p:cNvSpPr/>
          <p:nvPr/>
        </p:nvSpPr>
        <p:spPr>
          <a:xfrm>
            <a:off x="1284120" y="48466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2184480" y="4764240"/>
            <a:ext cx="4255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nchtim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午餐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7"/>
          <p:cNvSpPr/>
          <p:nvPr/>
        </p:nvSpPr>
        <p:spPr>
          <a:xfrm>
            <a:off x="2692440" y="1571760"/>
            <a:ext cx="48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at’s for dinner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晚饭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18"/>
          <p:cNvSpPr/>
          <p:nvPr/>
        </p:nvSpPr>
        <p:spPr>
          <a:xfrm>
            <a:off x="84780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9"/>
          <p:cNvSpPr/>
          <p:nvPr/>
        </p:nvSpPr>
        <p:spPr>
          <a:xfrm>
            <a:off x="1158840" y="16826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2209680" y="2938320"/>
            <a:ext cx="5112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has dinner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在家吃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9" descr="book.gif"/>
          <p:cNvPicPr/>
          <p:nvPr/>
        </p:nvPicPr>
        <p:blipFill>
          <a:blip r:embed="rId2"/>
          <a:stretch/>
        </p:blipFill>
        <p:spPr>
          <a:xfrm>
            <a:off x="58680" y="1600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矩形 25"/>
          <p:cNvSpPr/>
          <p:nvPr/>
        </p:nvSpPr>
        <p:spPr>
          <a:xfrm>
            <a:off x="1058760" y="232884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inner / dɪnə(r)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晚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1355400" y="3139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211480" y="4265640"/>
            <a:ext cx="6742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ke dinn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晚餐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dinner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吃晚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1356840" y="4467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214720" y="4935600"/>
            <a:ext cx="1769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u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1109160" y="5137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5"/>
          <p:cNvSpPr/>
          <p:nvPr/>
        </p:nvSpPr>
        <p:spPr>
          <a:xfrm>
            <a:off x="1112760" y="1387440"/>
            <a:ext cx="35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询问三餐吃什么的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1128600" y="1979640"/>
            <a:ext cx="7032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结构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for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餐名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breakfast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unch/dinner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1101600" y="2670120"/>
            <a:ext cx="1806840" cy="1514520"/>
            <a:chOff x="1101600" y="2670120"/>
            <a:chExt cx="1806840" cy="1514520"/>
          </a:xfrm>
        </p:grpSpPr>
        <p:pic>
          <p:nvPicPr>
            <p:cNvPr id="101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1101600" y="2670120"/>
              <a:ext cx="18068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文本框 2"/>
            <p:cNvSpPr/>
            <p:nvPr/>
          </p:nvSpPr>
          <p:spPr>
            <a:xfrm>
              <a:off x="1608120" y="29919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"/>
          <p:cNvSpPr/>
          <p:nvPr/>
        </p:nvSpPr>
        <p:spPr>
          <a:xfrm>
            <a:off x="2577960" y="39639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句型中介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o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定不要丢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2550960" y="4591080"/>
            <a:ext cx="5112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for lunch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午饭吃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odles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面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1696680" y="477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6"/>
          <p:cNvGrpSpPr/>
          <p:nvPr/>
        </p:nvGrpSpPr>
        <p:grpSpPr>
          <a:xfrm>
            <a:off x="1147680" y="2463840"/>
            <a:ext cx="1260720" cy="459720"/>
            <a:chOff x="1147680" y="2463840"/>
            <a:chExt cx="1260720" cy="459720"/>
          </a:xfrm>
        </p:grpSpPr>
        <p:sp>
          <p:nvSpPr>
            <p:cNvPr id="110" name="TextBox 3"/>
            <p:cNvSpPr/>
            <p:nvPr/>
          </p:nvSpPr>
          <p:spPr>
            <a:xfrm>
              <a:off x="1415880" y="2463840"/>
              <a:ext cx="99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1147680" y="2517840"/>
              <a:ext cx="32436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矩形 28"/>
          <p:cNvSpPr/>
          <p:nvPr/>
        </p:nvSpPr>
        <p:spPr>
          <a:xfrm>
            <a:off x="2313000" y="2219400"/>
            <a:ext cx="537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’s __________ break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 bread and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for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9"/>
          <p:cNvSpPr/>
          <p:nvPr/>
        </p:nvSpPr>
        <p:spPr>
          <a:xfrm>
            <a:off x="4325760" y="249876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7"/>
          <p:cNvSpPr/>
          <p:nvPr/>
        </p:nvSpPr>
        <p:spPr>
          <a:xfrm>
            <a:off x="2888640" y="1501920"/>
            <a:ext cx="479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et’s help my mother make di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咱们帮助我妈妈做晚饭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8"/>
          <p:cNvSpPr/>
          <p:nvPr/>
        </p:nvSpPr>
        <p:spPr>
          <a:xfrm>
            <a:off x="1041480" y="17305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9"/>
          <p:cNvSpPr/>
          <p:nvPr/>
        </p:nvSpPr>
        <p:spPr>
          <a:xfrm>
            <a:off x="1300320" y="1711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9" descr="book.gif"/>
          <p:cNvPicPr/>
          <p:nvPr/>
        </p:nvPicPr>
        <p:blipFill>
          <a:blip r:embed="rId2"/>
          <a:stretch/>
        </p:blipFill>
        <p:spPr>
          <a:xfrm>
            <a:off x="239760" y="16160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21" name="矩形 1"/>
          <p:cNvSpPr/>
          <p:nvPr/>
        </p:nvSpPr>
        <p:spPr>
          <a:xfrm>
            <a:off x="1209600" y="3819600"/>
            <a:ext cx="692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结构为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help 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（短语）原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”，句中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l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帮助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5"/>
          <p:cNvSpPr/>
          <p:nvPr/>
        </p:nvSpPr>
        <p:spPr>
          <a:xfrm>
            <a:off x="1195560" y="3121200"/>
            <a:ext cx="48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邀请别人帮助某人做某事的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963720" y="2228760"/>
            <a:ext cx="7621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help + sb. + do s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帮助某人做某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helps me do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帮助我做家庭作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 help + sb. + with s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帮助某人做某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helps me with mat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帮助我学数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949320" y="1530360"/>
            <a:ext cx="27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elp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固定搭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3:51:22Z</dcterms:modified>
  <cp:revision>59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